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7.jpeg" ContentType="image/jpeg"/>
  <Override PartName="/ppt/media/image4.png" ContentType="image/png"/>
  <Override PartName="/ppt/media/image5.pct" ContentType="image/x-pict"/>
  <Override PartName="/ppt/media/image6.pct" ContentType="image/x-pi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9115-5ED4-4EBC-BFD2-3D8F66C6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BCC-7632-48C6-B555-35D02C65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38AD-3526-46B0-BC4A-8CAACBB1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0B1-5A0E-49C2-AA7B-3C1A5D0A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B8A-5595-4E6A-A9E6-B6566F2F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A540-F0B2-4CF5-B687-BE141230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0BCA-CA4E-4F56-A757-B588B410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C3D6-80AB-4E1D-9C5C-74FD171C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FFE-077E-4B25-AEEB-6E9094E8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9747-A157-4118-8FC7-578AC4DE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835-EBDD-4D3B-B4DA-FC5EF023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9E7-B045-4E44-AD09-B1291BFC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2bd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6E6A-704D-4223-B2D3-1816895219BD}" type="slidenum">
              <a:rPr b="0" lang="en-GB" sz="1400" spc="-1" strike="noStrike">
                <a:solidFill>
                  <a:srgbClr val="3e4b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Lucida Handwriting"/>
              </a:rPr>
              <a:t>GDR-Neutrino </a:t>
            </a:r>
            <a:r>
              <a:rPr b="0" lang="en-GB" sz="1400" spc="-1" strike="noStrike">
                <a:solidFill>
                  <a:srgbClr val="000000"/>
                </a:solidFill>
                <a:latin typeface="Lucida Handwriting"/>
              </a:rPr>
              <a:t>(10-11 mai 2006)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4bff"/>
                </a:solidFill>
                <a:latin typeface="Lucida Handwriting"/>
              </a:rPr>
              <a:t>L. Mosca (CEA-Saclay)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Lucida Handwriting"/>
              </a:rPr>
              <a:t>The </a:t>
            </a:r>
            <a:r>
              <a:rPr b="1" lang="en-GB" sz="2400" spc="-1" strike="noStrike">
                <a:solidFill>
                  <a:srgbClr val="800000"/>
                </a:solidFill>
                <a:latin typeface="Lucida Handwriting"/>
              </a:rPr>
              <a:t>MEMPHYS </a:t>
            </a:r>
            <a:r>
              <a:rPr b="1" lang="en-GB" sz="2400" spc="-1" strike="noStrike">
                <a:solidFill>
                  <a:srgbClr val="0000ff"/>
                </a:solidFill>
                <a:latin typeface="Lucida Handwriting"/>
              </a:rPr>
              <a:t>project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30000"/>
                </a:solidFill>
                <a:latin typeface="Lucida Handwriting"/>
              </a:rPr>
              <a:t>(Laboratory excavation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Lucida Handwriting"/>
              </a:rPr>
              <a:t>ME</a:t>
            </a:r>
            <a:r>
              <a:rPr b="1" lang="en-GB" sz="1800" spc="-1" strike="noStrike">
                <a:solidFill>
                  <a:srgbClr val="0000ff"/>
                </a:solidFill>
                <a:latin typeface="Lucida Handwriting"/>
              </a:rPr>
              <a:t>gaton </a:t>
            </a:r>
            <a:r>
              <a:rPr b="1" lang="en-GB" sz="1800" spc="-1" strike="noStrike">
                <a:solidFill>
                  <a:srgbClr val="800000"/>
                </a:solidFill>
                <a:latin typeface="Lucida Handwriting"/>
              </a:rPr>
              <a:t>M</a:t>
            </a:r>
            <a:r>
              <a:rPr b="1" lang="en-GB" sz="1800" spc="-1" strike="noStrike">
                <a:solidFill>
                  <a:srgbClr val="0000ff"/>
                </a:solidFill>
                <a:latin typeface="Lucida Handwriting"/>
              </a:rPr>
              <a:t>ass </a:t>
            </a:r>
            <a:r>
              <a:rPr b="1" lang="en-GB" sz="1800" spc="-1" strike="noStrike">
                <a:solidFill>
                  <a:srgbClr val="800000"/>
                </a:solidFill>
                <a:latin typeface="Lucida Handwriting"/>
              </a:rPr>
              <a:t>PHYS</a:t>
            </a:r>
            <a:r>
              <a:rPr b="1" lang="en-GB" sz="1800" spc="-1" strike="noStrike">
                <a:solidFill>
                  <a:srgbClr val="0000ff"/>
                </a:solidFill>
                <a:latin typeface="Lucida Handwriting"/>
              </a:rPr>
              <a:t>ic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in a Large 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International Underground Laboratory 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in the</a:t>
            </a:r>
            <a:r>
              <a:rPr b="1" lang="en-GB" sz="1600" spc="-1" strike="noStrike">
                <a:solidFill>
                  <a:srgbClr val="3e4bff"/>
                </a:solidFill>
                <a:latin typeface="Lucida Handwriting"/>
              </a:rPr>
              <a:t> </a:t>
            </a:r>
            <a:r>
              <a:rPr b="1" lang="en-GB" sz="1600" spc="-1" strike="noStrike">
                <a:solidFill>
                  <a:srgbClr val="800000"/>
                </a:solidFill>
                <a:latin typeface="Lucida Handwriting"/>
              </a:rPr>
              <a:t>Fréjus 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tunnel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proton decay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supernovae explosion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solar and atmosphéric neutrinos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neutrino super-beam and beta-beam from </a:t>
            </a:r>
            <a:r>
              <a:rPr b="1" lang="en-GB" sz="1600" spc="-1" strike="noStrike">
                <a:solidFill>
                  <a:srgbClr val="800000"/>
                </a:solidFill>
                <a:latin typeface="Lucida Handwriting"/>
              </a:rPr>
              <a:t>CERN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36A-0DE5-411F-91D1-409E263289F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51320" y="838080"/>
            <a:ext cx="7692480" cy="40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Two examples of scenario for Water Cerenkov detector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)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3 shaft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of 250 000 m</a:t>
            </a:r>
            <a:r>
              <a:rPr b="0" lang="en-GB" sz="2000" spc="-1" strike="noStrike" baseline="30000">
                <a:solidFill>
                  <a:srgbClr val="3e4bff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ach, with a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fiducial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mass of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450 Kton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                                                             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(“UNO-like” scenario)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b)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4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shaft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of 250 000 m</a:t>
            </a:r>
            <a:r>
              <a:rPr b="0" lang="en-GB" sz="2000" spc="-1" strike="noStrike" baseline="30000">
                <a:solidFill>
                  <a:srgbClr val="3e4bff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ach, with a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fiducial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mass of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600 Kton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_____________________________________________________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-&gt; In both scenarios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one additional shaft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would be necessary for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Liquid Argon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detector of about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100 ktons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total mas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B2B-280D-484E-B3C7-95FDDB4998E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A MegaTon scale Detector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3 to 4 Water Cerenkov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modules ( = 20 x Super K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≈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500kT fiducial mas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) equipped with a large number of Photodetectors (eg. 250,000 PMTs 12”)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very well proved and robust technique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which provided already remarkable physical results mainly in Nucleon Decay and Neutrino Physics and Astrophysic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A3A-9A4A-4542-9182-B06A570A72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54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Very intense 300</a:t>
            </a:r>
            <a:r>
              <a:rPr b="0" lang="en-US" sz="3200" spc="-1" strike="noStrike">
                <a:solidFill>
                  <a:srgbClr val="2c2bdf"/>
                </a:solidFill>
                <a:latin typeface="Comic Sans MS"/>
              </a:rPr>
              <a:t>÷400 MeV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Neutrino Beams from CERN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based on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4MW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Proton Driver (eg. SPL) 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pi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Beta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(possibly in connection with the EURISOL project)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heavy ions decay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e4b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ACB-81B4-4C1A-8042-8FBAA47117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4200" y="3571920"/>
            <a:ext cx="0" cy="865080"/>
          </a:xfrm>
          <a:prstGeom prst="line">
            <a:avLst/>
          </a:prstGeom>
          <a:ln w="9360">
            <a:solidFill>
              <a:srgbClr val="5c1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98560" y="2347920"/>
            <a:ext cx="7488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SUPERBEAM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          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BETABEA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 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762120"/>
            <a:ext cx="77407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Superbeam + beta beam together</a:t>
            </a:r>
            <a:endParaRPr b="0" lang="en-US" sz="3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3120" y="4437000"/>
            <a:ext cx="28908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4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1840" y="4437000"/>
            <a:ext cx="21564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18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8200" y="3645000"/>
            <a:ext cx="502920" cy="576000"/>
          </a:xfrm>
          <a:prstGeom prst="upDownArrow">
            <a:avLst>
              <a:gd name="adj1" fmla="val 50000"/>
              <a:gd name="adj2" fmla="val 22800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6560" y="3645000"/>
            <a:ext cx="557280" cy="576000"/>
          </a:xfrm>
          <a:prstGeom prst="upDownArrow">
            <a:avLst>
              <a:gd name="adj1" fmla="val 50000"/>
              <a:gd name="adj2" fmla="val 20576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62200" y="457992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62200" y="3139920"/>
            <a:ext cx="1944720" cy="287640"/>
          </a:xfrm>
          <a:prstGeom prst="leftRightArrow">
            <a:avLst>
              <a:gd name="adj1" fmla="val 50000"/>
              <a:gd name="adj2" fmla="val 134593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4057800">
            <a:off x="4377600" y="2527200"/>
            <a:ext cx="211320" cy="3024360"/>
          </a:xfrm>
          <a:prstGeom prst="upDownArrow">
            <a:avLst>
              <a:gd name="adj1" fmla="val 50000"/>
              <a:gd name="adj2" fmla="val 284910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516800">
            <a:off x="2970360" y="4000320"/>
            <a:ext cx="2989080" cy="180720"/>
          </a:xfrm>
          <a:prstGeom prst="leftRightArrow">
            <a:avLst>
              <a:gd name="adj1" fmla="val 50000"/>
              <a:gd name="adj2" fmla="val 329265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6200" y="5156280"/>
            <a:ext cx="6264360" cy="703800"/>
          </a:xfrm>
          <a:prstGeom prst="rect">
            <a:avLst/>
          </a:prstGeom>
          <a:noFill/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2 ways of testing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P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CPT 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: redundancy and check of systematic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1989000"/>
            <a:ext cx="1873440" cy="1015920"/>
          </a:xfrm>
          <a:prstGeom prst="rect">
            <a:avLst/>
          </a:prstGeom>
          <a:solidFill>
            <a:srgbClr val="ebf2ac">
              <a:alpha val="55000"/>
            </a:srgbClr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Arial"/>
              </a:rPr>
              <a:t>2 beams</a:t>
            </a:r>
            <a:r>
              <a:rPr b="1" lang="en-GB" sz="1800" spc="-1" strike="noStrike">
                <a:solidFill>
                  <a:srgbClr val="3e4b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Arial"/>
              </a:rPr>
              <a:t>1 detector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346680" y="299412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2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418320" y="42894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8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98680" y="299556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98680" y="42894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1640" y="2717640"/>
            <a:ext cx="200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pure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7680" y="2717640"/>
            <a:ext cx="38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flavours + K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214560" y="3730680"/>
            <a:ext cx="1983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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06A4-CEAD-4EC6-AA15-3B7110B6D3C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457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 possible schedule for a European Lab. at Frejus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1219320"/>
            <a:ext cx="9144000" cy="4321080"/>
            <a:chOff x="0" y="1219320"/>
            <a:chExt cx="9144000" cy="4321080"/>
          </a:xfrm>
        </p:grpSpPr>
        <p:sp>
          <p:nvSpPr>
            <p:cNvPr id="133" name=""/>
            <p:cNvSpPr/>
            <p:nvPr/>
          </p:nvSpPr>
          <p:spPr>
            <a:xfrm>
              <a:off x="0" y="1219320"/>
              <a:ext cx="9144000" cy="4321080"/>
            </a:xfrm>
            <a:prstGeom prst="rect">
              <a:avLst/>
            </a:prstGeom>
            <a:solidFill>
              <a:srgbClr val="ffe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80" y="1423440"/>
              <a:ext cx="813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Year       2005                      </a:t>
              </a:r>
              <a:r>
                <a:rPr b="0" lang="en-GB" sz="1800" spc="-1" strike="noStrike">
                  <a:solidFill>
                    <a:srgbClr val="0000ff"/>
                  </a:solidFill>
                  <a:latin typeface="Arial"/>
                </a:rPr>
                <a:t>2010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                       2015                       2020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196056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afety tunnel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35280" y="1960560"/>
              <a:ext cx="13683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08000" y="1960560"/>
              <a:ext cx="136872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243396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Lab cavit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92360" y="2433960"/>
              <a:ext cx="2592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03280" y="2433960"/>
              <a:ext cx="576360" cy="307080"/>
            </a:xfrm>
            <a:prstGeom prst="rect">
              <a:avLst/>
            </a:prstGeom>
            <a:solidFill>
              <a:srgbClr val="713e3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e585"/>
                  </a:solidFill>
                  <a:latin typeface="Arial"/>
                </a:rPr>
                <a:t>P.S</a:t>
              </a:r>
              <a:endParaRPr b="0" lang="en-US" sz="1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79640" y="2433960"/>
              <a:ext cx="129708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tud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905920"/>
              <a:ext cx="16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ector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35280" y="2905920"/>
              <a:ext cx="143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 R&amp;D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92360" y="2905920"/>
              <a:ext cx="2808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T prod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44592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.prepar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64000" y="3380400"/>
              <a:ext cx="2016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Install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92360" y="3380400"/>
              <a:ext cx="1871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Outside lab.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3986280"/>
              <a:ext cx="19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Non-acc.physics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00720" y="3919320"/>
              <a:ext cx="284328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P-decay, S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920" y="452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80000" y="452664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59640" y="452664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00" y="49996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beta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99968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Beta 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35280" y="338040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64000" y="2433960"/>
              <a:ext cx="0" cy="337680"/>
            </a:xfrm>
            <a:prstGeom prst="line">
              <a:avLst/>
            </a:prstGeom>
            <a:ln w="93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80000" y="499968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48000" y="1826640"/>
              <a:ext cx="0" cy="3713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352680" y="5715000"/>
            <a:ext cx="3384720" cy="916920"/>
          </a:xfrm>
          <a:prstGeom prst="rect">
            <a:avLst/>
          </a:prstGeom>
          <a:solidFill>
            <a:srgbClr val="ffe58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cision for cavity digging decision for SPL  construction decision for EURISOL site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26DA-0DEC-441E-925E-AB9C0E0D2EC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-228600"/>
            <a:ext cx="8763120" cy="160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421"/>
                </a:solidFill>
                <a:latin typeface="Times New Roman"/>
              </a:rPr>
              <a:t>La “saga” du tunnel routier de sécurité du Fréjus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e31d18"/>
                </a:solidFill>
                <a:latin typeface="Times New Roman"/>
              </a:rPr>
              <a:t>diamètre du tunnel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     </a:t>
            </a:r>
            <a:r>
              <a:rPr b="1" sz="2400" spc="-1" strike="noStrike">
                <a:solidFill>
                  <a:srgbClr val="ff5e26"/>
                </a:solidFill>
                <a:latin typeface="Times New Roman"/>
              </a:rPr>
              <a:t>date                     partie Française            partie Italienne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mars 2001                   0.00 (zero) m                      9.50 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décembre 2001                                      4.80 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juin 2004                          5.50 m     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2 juillet 2004 :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création d’un groupe de travail à ce sujet par les deux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ministres de l’équipement/transports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Français (Gilles de Robien) e Italien (Pietro Lunardi).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Cette Commission devait rendre son rapport pour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le 31 Octobre 2004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septembre 2004                5.50 m                          8.30 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802fff"/>
                </a:solidFill>
                <a:latin typeface="Times New Roman"/>
              </a:rPr>
              <a:t>mars 2006                                               8.20m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802fff"/>
                </a:solidFill>
                <a:latin typeface="Times New Roman"/>
              </a:rPr>
              <a:t>                                       </a:t>
            </a:r>
            <a:r>
              <a:rPr b="1" sz="2400" spc="-1" strike="noStrike">
                <a:solidFill>
                  <a:srgbClr val="802fff"/>
                </a:solidFill>
                <a:latin typeface="Times New Roman"/>
              </a:rPr>
              <a:t>(Comité de Sécurité Franco-Italien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e30000"/>
                </a:solidFill>
                <a:latin typeface="Times New Roman"/>
              </a:rPr>
              <a:t>21 avril 2006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                             </a:t>
            </a:r>
            <a:r>
              <a:rPr b="1" sz="2400" spc="-1" strike="noStrike">
                <a:solidFill>
                  <a:srgbClr val="e30000"/>
                </a:solidFill>
                <a:latin typeface="Times New Roman"/>
              </a:rPr>
              <a:t>8.00 mètres “utiles”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              </a:t>
            </a:r>
            <a:r>
              <a:rPr b="1" sz="2400" spc="-1" strike="noStrike">
                <a:solidFill>
                  <a:srgbClr val="e30000"/>
                </a:solidFill>
                <a:latin typeface="Times New Roman"/>
              </a:rPr>
              <a:t>(Commission Inter-Gouvernementale Franco-Italienne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BDB1-B2E9-4289-AFA6-9C04258A427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c2bdf"/>
                </a:solidFill>
                <a:latin typeface="Comic Sans MS"/>
              </a:rPr>
              <a:t>Physics Motivations</a:t>
            </a:r>
            <a:endParaRPr b="0" lang="en-US" sz="36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ucle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Novae Neutrino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burst &amp; relic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olar &amp; Atmospheric Neutrino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eutrinos from Accelerator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Super Beam, Beta Beam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nd also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3e4b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Dark Matter (WIMP) indirect detection, High energy neutrinos,…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6C6-A873-4FF5-8FC1-01B066F7111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162920" y="838080"/>
            <a:ext cx="1525320" cy="2825640"/>
            <a:chOff x="7162920" y="838080"/>
            <a:chExt cx="1525320" cy="2825640"/>
          </a:xfrm>
        </p:grpSpPr>
        <p:sp>
          <p:nvSpPr>
            <p:cNvPr id="45" name=""/>
            <p:cNvSpPr/>
            <p:nvPr/>
          </p:nvSpPr>
          <p:spPr>
            <a:xfrm>
              <a:off x="7162920" y="838080"/>
              <a:ext cx="152532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73720" y="150624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6553080" y="990720"/>
            <a:ext cx="1525680" cy="2825640"/>
            <a:chOff x="6553080" y="990720"/>
            <a:chExt cx="1525680" cy="2825640"/>
          </a:xfrm>
        </p:grpSpPr>
        <p:sp>
          <p:nvSpPr>
            <p:cNvPr id="48" name=""/>
            <p:cNvSpPr/>
            <p:nvPr/>
          </p:nvSpPr>
          <p:spPr>
            <a:xfrm>
              <a:off x="6553080" y="9907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64240" y="1658880"/>
              <a:ext cx="150192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The </a:t>
            </a:r>
            <a:r>
              <a:rPr b="0" lang="en-GB" sz="3200" spc="-1" strike="noStrike">
                <a:solidFill>
                  <a:srgbClr val="e31d18"/>
                </a:solidFill>
                <a:latin typeface="Comic Sans MS"/>
              </a:rPr>
              <a:t>MEMPHYS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Project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24920" y="3451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943600" y="1143000"/>
            <a:ext cx="1555920" cy="2825640"/>
            <a:chOff x="5943600" y="1143000"/>
            <a:chExt cx="1555920" cy="2825640"/>
          </a:xfrm>
        </p:grpSpPr>
        <p:sp>
          <p:nvSpPr>
            <p:cNvPr id="53" name=""/>
            <p:cNvSpPr/>
            <p:nvPr/>
          </p:nvSpPr>
          <p:spPr>
            <a:xfrm>
              <a:off x="5962680" y="114300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73840" y="181152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42240" y="180504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43600" y="179388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029200" y="1219320"/>
            <a:ext cx="1555920" cy="2825640"/>
            <a:chOff x="5029200" y="1219320"/>
            <a:chExt cx="1555920" cy="2825640"/>
          </a:xfrm>
        </p:grpSpPr>
        <p:sp>
          <p:nvSpPr>
            <p:cNvPr id="58" name=""/>
            <p:cNvSpPr/>
            <p:nvPr/>
          </p:nvSpPr>
          <p:spPr>
            <a:xfrm>
              <a:off x="5048280" y="12193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59440" y="188784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27840" y="188136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29200" y="1870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766320" y="1371600"/>
            <a:ext cx="2157840" cy="2825640"/>
            <a:chOff x="3766320" y="1371600"/>
            <a:chExt cx="2157840" cy="2825640"/>
          </a:xfrm>
        </p:grpSpPr>
        <p:sp>
          <p:nvSpPr>
            <p:cNvPr id="63" name=""/>
            <p:cNvSpPr/>
            <p:nvPr/>
          </p:nvSpPr>
          <p:spPr>
            <a:xfrm>
              <a:off x="4145040" y="203976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766320" y="1371600"/>
              <a:ext cx="2157840" cy="2792520"/>
              <a:chOff x="3766320" y="1371600"/>
              <a:chExt cx="2157840" cy="2792520"/>
            </a:xfrm>
          </p:grpSpPr>
          <p:sp>
            <p:nvSpPr>
              <p:cNvPr id="65" name=""/>
              <p:cNvSpPr/>
              <p:nvPr/>
            </p:nvSpPr>
            <p:spPr>
              <a:xfrm>
                <a:off x="4133880" y="1371600"/>
                <a:ext cx="1525320" cy="188460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213080" y="2033640"/>
                <a:ext cx="1363680" cy="213048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4265640" y="2261880"/>
                <a:ext cx="1268280" cy="41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975840" y="1609920"/>
                <a:ext cx="194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flipV="1">
                <a:off x="4238280" y="2428920"/>
                <a:ext cx="28440" cy="154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766320" y="2946600"/>
                <a:ext cx="194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114800" y="2022480"/>
                <a:ext cx="1555560" cy="598680"/>
              </a:xfrm>
              <a:prstGeom prst="ellipse">
                <a:avLst/>
              </a:prstGeom>
              <a:noFill/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189000" y="990720"/>
            <a:ext cx="4501080" cy="4732200"/>
            <a:chOff x="189000" y="990720"/>
            <a:chExt cx="4501080" cy="4732200"/>
          </a:xfrm>
        </p:grpSpPr>
        <p:pic>
          <p:nvPicPr>
            <p:cNvPr id="73" name="" descr=""/>
            <p:cNvPicPr/>
            <p:nvPr/>
          </p:nvPicPr>
          <p:blipFill>
            <a:blip r:embed="rId1"/>
            <a:srcRect l="26492" t="13348" r="32464" b="3039"/>
            <a:stretch/>
          </p:blipFill>
          <p:spPr>
            <a:xfrm>
              <a:off x="866520" y="990720"/>
              <a:ext cx="3143160" cy="4326120"/>
            </a:xfrm>
            <a:prstGeom prst="rect">
              <a:avLst/>
            </a:prstGeom>
            <a:ln w="19080">
              <a:solidFill>
                <a:srgbClr val="ff0c14"/>
              </a:solidFill>
              <a:miter/>
            </a:ln>
          </p:spPr>
        </p:pic>
        <p:sp>
          <p:nvSpPr>
            <p:cNvPr id="74" name=""/>
            <p:cNvSpPr/>
            <p:nvPr/>
          </p:nvSpPr>
          <p:spPr>
            <a:xfrm>
              <a:off x="189000" y="4581720"/>
              <a:ext cx="249696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Fréjus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09720" y="482292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11400" y="1825920"/>
              <a:ext cx="213120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CERN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54040" y="203868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03080" y="2271960"/>
              <a:ext cx="1104840" cy="263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81720" y="3203640"/>
              <a:ext cx="261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8080" y="5265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10240" y="5253120"/>
              <a:ext cx="267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31d18"/>
                  </a:solidFill>
                  <a:latin typeface="Comic Sans MS"/>
                </a:rPr>
                <a:t>4800mwe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066680" y="56386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xcavation engineering pre-study has been done for 5 shafts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411480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</a:rPr>
              <a:t>Water Cerenkov modules at Fréju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038120" y="5028840"/>
            <a:ext cx="6858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038120" y="5029200"/>
            <a:ext cx="7621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4038480" y="4876560"/>
            <a:ext cx="32004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4724280"/>
            <a:ext cx="4343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CERN to Fréjus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Neutrino Super-beam and Beta-beam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2D0-8E77-4077-BD24-A45EC74763E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447920" y="609480"/>
          <a:ext cx="6400800" cy="51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40080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057-B3E6-4437-9038-638E6D0473B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« Convergence » measurements along the Fréjus road tunnel</a:t>
            </a:r>
            <a:r>
              <a:rPr b="0" lang="en-GB" sz="4400" spc="-1" strike="noStrike">
                <a:solidFill>
                  <a:srgbClr val="2c2bd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914400" y="1066680"/>
            <a:ext cx="1069344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89F-5A42-4C89-89C1-A0751B9335E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c2bdf"/>
                </a:solidFill>
                <a:latin typeface="Comic Sans MS"/>
              </a:rPr>
              <a:t>A Very Large Laboratory</a:t>
            </a:r>
            <a:endParaRPr b="0" lang="en-US" sz="40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309680"/>
            <a:ext cx="8991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In the middle of the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Fréjus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tunnel at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depth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of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4800 m.w.e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92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preliminary investigation shows the feasibility to excavate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up to five shafts of about 250,000 m</a:t>
            </a:r>
            <a:r>
              <a:rPr b="0" lang="en-GB" sz="2400" spc="-1" strike="noStrike" baseline="30000">
                <a:solidFill>
                  <a:srgbClr val="e31d18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 each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4419720" cy="3062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CDE5-06E7-4EAD-92B1-4F83CFC6AA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75680" y="838080"/>
            <a:ext cx="6968520" cy="51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Main results of the Preliminary Stud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1) the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best sit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(rock quality) is found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in the middl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of the mountain,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t a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depth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of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4800 mw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: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a really good chance !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2) of the two considered shapes : “tunnel” and “shaft”,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the “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haft (= well) shap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” is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trongly preferred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3)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Cylindrical shafts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re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feasible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up to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 diameter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e1121a"/>
                </a:solidFill>
                <a:latin typeface="Symbol"/>
                <a:ea typeface="Symbol"/>
              </a:rPr>
              <a:t>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= 65 m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nd a full height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 h = 80 m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(≈ 250 000 m</a:t>
            </a:r>
            <a:r>
              <a:rPr b="0" lang="en-GB" sz="1800" spc="-1" strike="noStrike" baseline="30000">
                <a:solidFill>
                  <a:srgbClr val="3e4b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4)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with “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egg shap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” or “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intermediate shap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” the volume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of the shafts could be still increased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5) The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estimated cost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is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≈ 80 M€ X Nb of shaft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F89-149F-47C6-9FB6-78742E1507E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4840" y="53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-380880" y="2819520"/>
          <a:ext cx="510516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2819520"/>
                    <a:ext cx="510516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495680" y="228600"/>
          <a:ext cx="4413240" cy="587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28600"/>
                    <a:ext cx="441324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85800" y="609480"/>
            <a:ext cx="357660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Exemple of “egg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shape” simulation, constrained by the rock parameter measurements made during the present tunnel and laboratory excavation.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The main feasibility criterium is that the significantly perturbated region around the cavity should not exceed a thickness of about 10 m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A33B-ECA8-48BF-B5A7-907403D7AE3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60360" y="0"/>
            <a:ext cx="5803920" cy="7718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77920" y="-34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670-5CDC-4DF2-B396-59DA32F9A12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22:17:48Z</dcterms:created>
  <dc:creator>Luigi Mosca</dc:creator>
  <dc:description/>
  <dc:language>en-US</dc:language>
  <cp:lastModifiedBy>Luigi Mosca</cp:lastModifiedBy>
  <dcterms:modified xsi:type="dcterms:W3CDTF">2006-05-10T21:19:06Z</dcterms:modified>
  <cp:revision>83</cp:revision>
  <dc:subject/>
  <dc:title>Présentation PowerPoint</dc:title>
</cp:coreProperties>
</file>